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36C-BB8A-4602-AD14-52BB241C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6E3-52A4-4ACB-BCE1-15EC27B9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DC3-7796-43E0-B9DC-B6F36585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BDE-3870-4FC0-A870-12C960E0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14A-DEAF-47D9-A10B-CB13C89C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DF9-7D41-41E3-A2CF-D3BEB49B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5D3-2E57-4A07-83A9-F8B5E5D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559-23B6-4596-B352-09410453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AC8-EAF9-4F0E-A643-F103E354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7CB-3A80-41DD-9C99-CDCEE82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EA3-129B-42D4-9954-6C95305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78C-B071-47DF-ABE8-4443CBE7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78A7-1E8E-44B2-94A1-71AD0046C67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Industry In The Developing Worl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NIC’s: South Ko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NI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 number of countries around the world that can be accurately described as Newly Industrialised Countries (NIC'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ll share the same characteristics, and one of the best examples is South Ko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Korea is one of the countries in south-east Asia described as being part of the Tiger Econom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NIC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creasing exporter to the world market, usually by copying existing products and then re-producing them for a much cheaper pr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pid growth in the manufacturing sector, which results in far more exports and a rapidly rising G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3 S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stages to the development of an NIC, from its traditional society to a developed world socie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frame for the whole process can be as little as 30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radition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industry is labour intensive, concentrating on small cottage-style traditional industries, using local raw material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 could include food processing or textile manufa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ten, the majority of people are still in the primary sector, doing things such as farm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little technology and most people have very little mone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st products are imported from abroad, meaning that the country is relying on other for many of its nee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mport Substitution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untry decides to promote its own indus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companies copy products from well-known companies, and then make them for a far cheaper pri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untry operates a strict regime of trade tariffs and high taxes for any similar products being imported into the countr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imed at protecting their own companies whilst they gr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 industries are car manufacture, computer manufacture and the manufacture of other electrical goods, such as hi-fi'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port Orientated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nce the new companies have become established in their own country they are unleashed upon the world marke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industries are now capital intensive, using high technology and aimed at making a big profi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GDP of the country starts to rocket, often growing at well over 5% per year, which is an amazing rat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is now described as being an NIC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4:29:36Z</dcterms:created>
  <dc:creator>Dell_02</dc:creator>
  <dc:description/>
  <dc:language>en-US</dc:language>
  <cp:lastModifiedBy>Dell_02</cp:lastModifiedBy>
  <dcterms:modified xsi:type="dcterms:W3CDTF">2011-01-27T04:37:09Z</dcterms:modified>
  <cp:revision>1</cp:revision>
  <dc:subject/>
  <dc:title>Industry In The Developing World</dc:title>
</cp:coreProperties>
</file>